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F68-D6C7-4DBB-B00C-61301D03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CAF-0096-4766-924F-E88A0141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44A-26C5-48A2-8540-74BA78E1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BC5-D5B2-443D-B888-EDFA883F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EC9-9C4D-415E-99FB-C3AD1AD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FB5-16CF-4CEC-BCA1-28A57459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C32-46AB-444F-8604-F193D82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226-CB9C-4FE0-916C-68E4ED7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3CE-8221-4EB9-9567-D0B44C8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AEA-DF77-47CF-816A-2EE96CA9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6C8-0A89-4D88-ADF7-800F7DB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462-152D-4D21-8A76-3601B5FC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B7E3-338C-4CE7-9338-330F526BAE5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Tropical Storm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ther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therwise known as hurricanes, cyclones, typhoons, and wily willies (the Australian name!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se are very intense areas of very low pressure, approximately 500 to 1000 kilometres in diamet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ropical storms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form over water that is above 26.5°C in temperatur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warm water heats the air above it, causing it to rise rapidl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oler air from elsewhere rapidly moves in to replace the rising air and the process starts agai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 Do They Occu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apidly rising moist air, cools as it ascends and forms tall cumulo-nimbus clou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slowly spin around the central poi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et streams above the storm clouds continue to suck the air u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oling air sinks down through the spiralling mass of clouds to produce a central eye of the stor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opical storms move quickly over water, as long as it is warms enough to keep the storm energis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ce over land, where there is less moisture and the surface is cooler, tropical storms quickly calm dow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weatherwizkids.com/Hurricane_formation.gif"/>
          <p:cNvPicPr/>
          <p:nvPr/>
        </p:nvPicPr>
        <p:blipFill>
          <a:blip r:embed="rId1"/>
          <a:stretch/>
        </p:blipFill>
        <p:spPr>
          <a:xfrm>
            <a:off x="324000" y="189000"/>
            <a:ext cx="8512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storm approached there would be a drop in temperature and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 speeds would begin to increase and clouds would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storm is overhead the pressure would fall rapidly, as would the temperat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 speeds would be in excess of 150km/hr and the rain would be torrent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ind would whip up waves that could swamp entire coastal areas, or drown entire coral islands in the Pacif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ye of the storm is overhe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es are clear, the temperature and pressure increase, and the wind dies dow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fortunately this is only a brief lull in the st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orm hits ag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 and pressure fa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rrential rain and wind speeds of over 100km/hr occu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inds are now coming form the opposite direction than they were bef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he storm the temperature and pressure rise ag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ain becomes showers, and the winds die dow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ean up operation begin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3:39:28Z</dcterms:created>
  <dc:creator>Dell_02</dc:creator>
  <dc:description/>
  <dc:language>en-US</dc:language>
  <cp:lastModifiedBy>Dell_02</cp:lastModifiedBy>
  <dcterms:modified xsi:type="dcterms:W3CDTF">2011-01-27T23:55:18Z</dcterms:modified>
  <cp:revision>2</cp:revision>
  <dc:subject/>
  <dc:title>Tropical Storms</dc:title>
</cp:coreProperties>
</file>